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AB1-B205-401E-827B-71CC6350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7EE-3C58-4B1B-9AB5-5C6827AF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CBD-1983-4354-86ED-6123744C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C7E-0BAA-4E5C-82BC-889AD2C1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85E-DC73-41EC-85DB-60D96757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051-F9AB-4928-89AF-AA789E6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BD6-158B-4BEC-AF0F-BFE8DA01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BA4-B5CB-4B52-AA5B-9D56041C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1B8-7C7E-430A-BE93-C0E361F0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AD0-1BB8-4C00-B265-913DDDB8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E14-A97B-4808-85A8-15A3CEEA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3B9-3086-45EA-9BBA-20C3A459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B6D7-451B-4086-AB2C-BD1016B6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844640"/>
            <a:ext cx="7129440" cy="143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rbon 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3789360"/>
            <a:ext cx="714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arbon, Silicon, Germanuim, Tin, L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Metals, Metals, and Metallo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is a Non-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on and Germanium are Metallo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and Lead are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hey are loc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located at 4A. It is reactive and have 4 valence numbers. Also 4 electrons in the outer sh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16:41Z</dcterms:created>
  <dc:creator>tatumadmin</dc:creator>
  <dc:description/>
  <dc:language>en-US</dc:language>
  <cp:lastModifiedBy>tatumadmin</cp:lastModifiedBy>
  <dcterms:modified xsi:type="dcterms:W3CDTF">2009-12-03T21:25:49Z</dcterms:modified>
  <cp:revision>2</cp:revision>
  <dc:subject/>
  <dc:title>Slide 1</dc:title>
</cp:coreProperties>
</file>